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7.wmf" ContentType="image/x-wmf"/>
  <Override PartName="/ppt/media/buzzer.wav" ContentType="audio/x-wav"/>
  <Override PartName="/ppt/media/image7.wmf" ContentType="image/x-wmf"/>
  <Override PartName="/ppt/media/image16.wmf" ContentType="image/x-wmf"/>
  <Override PartName="/ppt/media/ahhh.wav" ContentType="audio/x-wav"/>
  <Override PartName="/ppt/media/image15.wmf" ContentType="image/x-wmf"/>
  <Override PartName="/ppt/media/harp.wav" ContentType="audio/x-wav"/>
  <Override PartName="/ppt/media/image20.wmf" ContentType="image/x-wmf"/>
  <Override PartName="/ppt/media/image18.wmf" ContentType="image/x-wmf"/>
  <Override PartName="/ppt/media/wakeup.wav" ContentType="audio/x-wav"/>
  <Override PartName="/ppt/media/image5.png" ContentType="image/png"/>
  <Override PartName="/ppt/media/image13.wmf" ContentType="image/x-wmf"/>
  <Override PartName="/ppt/media/image21.wmf" ContentType="image/x-wmf"/>
  <Override PartName="/ppt/media/APPLAUSE.WAV" ContentType="audio/x-wav"/>
  <Override PartName="/ppt/media/image23.wmf" ContentType="image/x-wmf"/>
  <Override PartName="/ppt/media/image1.wmf" ContentType="image/x-wmf"/>
  <Override PartName="/ppt/media/image24.wmf" ContentType="image/x-wmf"/>
  <Override PartName="/ppt/media/whee.wav" ContentType="audio/x-wav"/>
  <Override PartName="/ppt/media/attaboy.wav" ContentType="audio/x-wav"/>
  <Override PartName="/ppt/media/image2.wmf" ContentType="image/x-wmf"/>
  <Override PartName="/ppt/media/image9.wmf" ContentType="image/x-wmf"/>
  <Override PartName="/ppt/media/image25.wmf" ContentType="image/x-wmf"/>
  <Override PartName="/ppt/media/yabba.wav" ContentType="audio/x-wav"/>
  <Override PartName="/ppt/media/image11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gethang.wav" ContentType="audio/x-wav"/>
  <Override PartName="/ppt/media/image22.wmf" ContentType="image/x-wmf"/>
  <Override PartName="/ppt/media/image6.wmf" ContentType="image/x-wmf"/>
  <Override PartName="/ppt/media/look_good.wav" ContentType="audio/x-wav"/>
  <Override PartName="/ppt/media/image8.wmf" ContentType="image/x-wmf"/>
  <Override PartName="/ppt/media/1ststep.wav" ContentType="audio/x-wav"/>
  <Override PartName="/ppt/media/image10.wmf" ContentType="image/x-wmf"/>
  <Override PartName="/ppt/media/image14.wmf" ContentType="image/x-wmf"/>
  <Override PartName="/ppt/media/excelnt.wav" ContentType="audio/x-wav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67E-187C-4630-8573-AB23D7E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49D-DF86-4B1F-906B-EF9769FE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F8B-0EC8-4EE0-9C33-CB8DC237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AD9-841B-45A8-BBCB-4923347A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138-B1DE-453B-946C-4281CF7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371-CAD7-4314-A723-4E6767B1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D50-FD79-4EA8-A2A9-5D831F8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9A2-F4DD-4962-B685-08579CCF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223-3D49-4D28-8451-5E698049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F9B-89F5-48B3-8780-F90BD870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68D-0499-46FC-9743-1739420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3B0-F05F-49FA-BB2E-1A1C89F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DA2-47D7-426E-AD09-69A84ABF8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ook_g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ttabo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excel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gethan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harp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whe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ahh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audio" Target="../media/yabb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akeup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1stst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95280" y="1752480"/>
            <a:ext cx="708660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or Opinion?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506680" cy="2271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3726360" y="4952880"/>
            <a:ext cx="1919520" cy="1700280"/>
            <a:chOff x="3726360" y="4952880"/>
            <a:chExt cx="1919520" cy="1700280"/>
          </a:xfrm>
        </p:grpSpPr>
        <p:grpSp>
          <p:nvGrpSpPr>
            <p:cNvPr id="45" name="Group 7"/>
            <p:cNvGrpSpPr/>
            <p:nvPr/>
          </p:nvGrpSpPr>
          <p:grpSpPr>
            <a:xfrm>
              <a:off x="4038480" y="4952880"/>
              <a:ext cx="1371600" cy="228600"/>
              <a:chOff x="4038480" y="4952880"/>
              <a:chExt cx="1371600" cy="22860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4038480" y="4952880"/>
                <a:ext cx="15264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5"/>
              <p:cNvSpPr/>
              <p:nvPr/>
            </p:nvSpPr>
            <p:spPr>
              <a:xfrm>
                <a:off x="5257800" y="495288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11"/>
            <p:cNvSpPr/>
            <p:nvPr/>
          </p:nvSpPr>
          <p:spPr>
            <a:xfrm rot="16287000">
              <a:off x="4381200" y="5371920"/>
              <a:ext cx="609480" cy="1904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ook_goo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6000" y="533520"/>
            <a:ext cx="85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949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4280" y="609480"/>
            <a:ext cx="816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le, oak, and pine are types of t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Object 6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552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22328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87" name="Object 7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H…NUT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rId3" action="ppaction://hlinksldjump"/>
          </p:cNvPr>
          <p:cNvSpPr/>
          <p:nvPr/>
        </p:nvSpPr>
        <p:spPr>
          <a:xfrm>
            <a:off x="6858000" y="50292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5953" y="3794"/>
                </a:moveTo>
                <a:lnTo>
                  <a:pt x="19966" y="10800"/>
                </a:lnTo>
                <a:lnTo>
                  <a:pt x="595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22184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724280" y="4800600"/>
            <a:ext cx="1271880" cy="13860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4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5791320" y="1905120"/>
            <a:ext cx="3047760" cy="25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ou’re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840" y="6094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outside is 20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Object 6" descr=""/>
          <p:cNvPicPr/>
          <p:nvPr/>
        </p:nvPicPr>
        <p:blipFill>
          <a:blip r:embed="rId1"/>
          <a:stretch/>
        </p:blipFill>
        <p:spPr>
          <a:xfrm>
            <a:off x="3200400" y="186840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Object 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ho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2" action="ppaction://hlinksldjump"/>
          </p:cNvPr>
          <p:cNvSpPr/>
          <p:nvPr/>
        </p:nvSpPr>
        <p:spPr>
          <a:xfrm>
            <a:off x="5867280" y="4876920"/>
            <a:ext cx="1676520" cy="1143000"/>
          </a:xfrm>
          <a:custGeom>
            <a:avLst/>
            <a:gdLst>
              <a:gd name="textAreaLeft" fmla="*/ 73800 w 1676520"/>
              <a:gd name="textAreaRight" fmla="*/ 1602720 w 1676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1679" h="21600">
                <a:moveTo>
                  <a:pt x="0" y="0"/>
                </a:moveTo>
                <a:lnTo>
                  <a:pt x="31679" y="0"/>
                </a:lnTo>
                <a:lnTo>
                  <a:pt x="31679" y="21600"/>
                </a:lnTo>
                <a:lnTo>
                  <a:pt x="0" y="21600"/>
                </a:lnTo>
                <a:close/>
              </a:path>
              <a:path fill="lightenLess" w="31679" h="21600">
                <a:moveTo>
                  <a:pt x="0" y="0"/>
                </a:moveTo>
                <a:lnTo>
                  <a:pt x="31679" y="0"/>
                </a:lnTo>
                <a:lnTo>
                  <a:pt x="30279" y="1400"/>
                </a:lnTo>
                <a:lnTo>
                  <a:pt x="1400" y="1400"/>
                </a:lnTo>
                <a:close/>
              </a:path>
              <a:path fill="darken" w="31679" h="21600">
                <a:moveTo>
                  <a:pt x="31679" y="0"/>
                </a:moveTo>
                <a:lnTo>
                  <a:pt x="31679" y="21600"/>
                </a:lnTo>
                <a:lnTo>
                  <a:pt x="30279" y="20200"/>
                </a:lnTo>
                <a:lnTo>
                  <a:pt x="30279" y="1400"/>
                </a:lnTo>
                <a:close/>
              </a:path>
              <a:path fill="darkenLess" w="31679" h="21600">
                <a:moveTo>
                  <a:pt x="3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9" y="20200"/>
                </a:lnTo>
                <a:close/>
              </a:path>
              <a:path fill="lighten" w="3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79" h="21600">
                <a:moveTo>
                  <a:pt x="8833" y="3794"/>
                </a:moveTo>
                <a:lnTo>
                  <a:pt x="22846" y="10800"/>
                </a:lnTo>
                <a:lnTo>
                  <a:pt x="8833" y="17806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85120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3733920" y="1600200"/>
            <a:ext cx="5257800" cy="24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Out! 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tting co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480" y="609480"/>
            <a:ext cx="80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ers are the best invention e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635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763920" y="609480"/>
            <a:ext cx="766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6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>
            <a:hlinkClick r:id="rId2" action="ppaction://hlinksldjump"/>
          </p:cNvPr>
          <p:cNvSpPr/>
          <p:nvPr/>
        </p:nvSpPr>
        <p:spPr>
          <a:xfrm>
            <a:off x="739152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3794"/>
                </a:moveTo>
                <a:lnTo>
                  <a:pt x="21130" y="10800"/>
                </a:lnTo>
                <a:lnTo>
                  <a:pt x="711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609480"/>
            <a:ext cx="82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inion …and I’d have to agree with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408168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601640" y="304920"/>
            <a:ext cx="57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is a true statemen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facts never chang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 some facts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2435400"/>
            <a:ext cx="509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does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5320" y="3505320"/>
            <a:ext cx="6619680" cy="860400"/>
            <a:chOff x="535320" y="3505320"/>
            <a:chExt cx="6619680" cy="860400"/>
          </a:xfrm>
        </p:grpSpPr>
        <p:pic>
          <p:nvPicPr>
            <p:cNvPr id="52" name="Object 4" descr=""/>
            <p:cNvPicPr/>
            <p:nvPr/>
          </p:nvPicPr>
          <p:blipFill>
            <a:blip r:embed="rId1"/>
            <a:stretch/>
          </p:blipFill>
          <p:spPr>
            <a:xfrm>
              <a:off x="5029200" y="3505320"/>
              <a:ext cx="21258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6"/>
            <p:cNvSpPr/>
            <p:nvPr/>
          </p:nvSpPr>
          <p:spPr>
            <a:xfrm>
              <a:off x="535320" y="3581280"/>
              <a:ext cx="43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ennessee is a stat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457200" y="2438280"/>
            <a:ext cx="8229600" cy="2667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act that can chan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677600" y="4724280"/>
            <a:ext cx="5164200" cy="1203480"/>
            <a:chOff x="1677600" y="4724280"/>
            <a:chExt cx="5164200" cy="1203480"/>
          </a:xfrm>
        </p:grpSpPr>
        <p:sp>
          <p:nvSpPr>
            <p:cNvPr id="56" name="Text Box 10"/>
            <p:cNvSpPr/>
            <p:nvPr/>
          </p:nvSpPr>
          <p:spPr>
            <a:xfrm>
              <a:off x="1677600" y="4952880"/>
              <a:ext cx="351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is food is hot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Object 11" descr=""/>
            <p:cNvPicPr/>
            <p:nvPr/>
          </p:nvPicPr>
          <p:blipFill>
            <a:blip r:embed="rId2"/>
            <a:stretch/>
          </p:blipFill>
          <p:spPr>
            <a:xfrm>
              <a:off x="5715000" y="4724280"/>
              <a:ext cx="1126800" cy="12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480" y="609480"/>
            <a:ext cx="66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think I look terrible in or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Object 6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57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764280" y="609480"/>
            <a:ext cx="778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7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6324480" y="480060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3794"/>
                </a:moveTo>
                <a:lnTo>
                  <a:pt x="20207" y="10800"/>
                </a:lnTo>
                <a:lnTo>
                  <a:pt x="6194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480" y="609480"/>
            <a:ext cx="801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n opin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Object 3" descr=""/>
          <p:cNvPicPr/>
          <p:nvPr/>
        </p:nvPicPr>
        <p:blipFill>
          <a:blip r:embed="rId1"/>
          <a:stretch/>
        </p:blipFill>
        <p:spPr>
          <a:xfrm>
            <a:off x="1676520" y="3757680"/>
            <a:ext cx="3325680" cy="3100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4495680" y="1905120"/>
            <a:ext cx="4496040" cy="2361960"/>
          </a:xfrm>
          <a:prstGeom prst="cloudCallout">
            <a:avLst>
              <a:gd name="adj1" fmla="val -53212"/>
              <a:gd name="adj2" fmla="val 52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408280" y="228600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think you 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rvelou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0" y="609480"/>
            <a:ext cx="68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her is working in the gar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766080" y="60948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Object 7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 the id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553080" y="4876920"/>
            <a:ext cx="1447920" cy="121896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5656" h="21600">
                <a:moveTo>
                  <a:pt x="0" y="0"/>
                </a:moveTo>
                <a:lnTo>
                  <a:pt x="25656" y="0"/>
                </a:lnTo>
                <a:lnTo>
                  <a:pt x="25656" y="21600"/>
                </a:lnTo>
                <a:lnTo>
                  <a:pt x="0" y="21600"/>
                </a:lnTo>
                <a:close/>
              </a:path>
              <a:path fill="lightenLess" w="25656" h="21600">
                <a:moveTo>
                  <a:pt x="0" y="0"/>
                </a:moveTo>
                <a:lnTo>
                  <a:pt x="25656" y="0"/>
                </a:lnTo>
                <a:lnTo>
                  <a:pt x="24256" y="1400"/>
                </a:lnTo>
                <a:lnTo>
                  <a:pt x="1400" y="1400"/>
                </a:lnTo>
                <a:close/>
              </a:path>
              <a:path fill="darken" w="25656" h="21600">
                <a:moveTo>
                  <a:pt x="25656" y="0"/>
                </a:moveTo>
                <a:lnTo>
                  <a:pt x="25656" y="21600"/>
                </a:lnTo>
                <a:lnTo>
                  <a:pt x="24256" y="20200"/>
                </a:lnTo>
                <a:lnTo>
                  <a:pt x="24256" y="1400"/>
                </a:lnTo>
                <a:close/>
              </a:path>
              <a:path fill="darkenLess" w="25656" h="21600">
                <a:moveTo>
                  <a:pt x="2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56" y="20200"/>
                </a:lnTo>
                <a:close/>
              </a:path>
              <a:path fill="lighten" w="2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56" h="21600">
                <a:moveTo>
                  <a:pt x="5822" y="3794"/>
                </a:moveTo>
                <a:lnTo>
                  <a:pt x="19834" y="10800"/>
                </a:lnTo>
                <a:lnTo>
                  <a:pt x="5822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464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3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654200" cy="2754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5486400" y="1981080"/>
            <a:ext cx="2971800" cy="2133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ow you’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ide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524600" y="53352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zza is the best tasting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Object 9" descr=""/>
          <p:cNvPicPr/>
          <p:nvPr/>
        </p:nvPicPr>
        <p:blipFill>
          <a:blip r:embed="rId1"/>
          <a:stretch/>
        </p:blipFill>
        <p:spPr>
          <a:xfrm>
            <a:off x="3352680" y="1828800"/>
            <a:ext cx="2476800" cy="276228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6781680" y="4572000"/>
            <a:ext cx="1981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365560" y="685800"/>
            <a:ext cx="537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3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54380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364120" y="685800"/>
            <a:ext cx="560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pinion.  It tell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Object 3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 rot="31800">
            <a:off x="991800" y="2587320"/>
            <a:ext cx="2890800" cy="2487600"/>
          </a:xfrm>
          <a:prstGeom prst="wedgeRoundRectCallout">
            <a:avLst>
              <a:gd name="adj1" fmla="val 73662"/>
              <a:gd name="adj2" fmla="val 46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ger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466740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4080" y="68580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ccer and tennis are both spo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Object 6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665520" cy="310212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7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965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640" y="685800"/>
            <a:ext cx="639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opinion is a statement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lls what someone think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inions can also can cha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11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9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hh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6960" y="6858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Object 9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10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1"/>
          <p:cNvSpPr/>
          <p:nvPr/>
        </p:nvSpPr>
        <p:spPr>
          <a:xfrm>
            <a:off x="723888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7652" y="3794"/>
                </a:moveTo>
                <a:lnTo>
                  <a:pt x="21665" y="10800"/>
                </a:lnTo>
                <a:lnTo>
                  <a:pt x="765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45520" y="68580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Object 3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02868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4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3954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685800"/>
            <a:ext cx="71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id you do?  If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help, click the button bel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ry ag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>
            <a:hlinkClick r:id="" action="ppaction://hlinkshowjump?jump=firstslide"/>
          </p:cNvPr>
          <p:cNvSpPr/>
          <p:nvPr/>
        </p:nvSpPr>
        <p:spPr>
          <a:xfrm>
            <a:off x="3429000" y="3809880"/>
            <a:ext cx="3124080" cy="198144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440"/>
              <a:gd name="textAreaBottom" fmla="*/ 1853280 h 1981440"/>
            </a:gdLst>
            <a:ahLst/>
            <a:rect l="textAreaLeft" t="textAreaTop" r="textAreaRight" b="textAreaBottom"/>
            <a:pathLst>
              <a:path w="34054" h="21600">
                <a:moveTo>
                  <a:pt x="0" y="0"/>
                </a:moveTo>
                <a:lnTo>
                  <a:pt x="34054" y="0"/>
                </a:lnTo>
                <a:lnTo>
                  <a:pt x="34054" y="21600"/>
                </a:lnTo>
                <a:lnTo>
                  <a:pt x="0" y="21600"/>
                </a:lnTo>
                <a:close/>
              </a:path>
              <a:path fill="lightenLess" w="34054" h="21600">
                <a:moveTo>
                  <a:pt x="0" y="0"/>
                </a:moveTo>
                <a:lnTo>
                  <a:pt x="34054" y="0"/>
                </a:lnTo>
                <a:lnTo>
                  <a:pt x="32654" y="1400"/>
                </a:lnTo>
                <a:lnTo>
                  <a:pt x="1400" y="1400"/>
                </a:lnTo>
                <a:close/>
              </a:path>
              <a:path fill="darken" w="34054" h="21600">
                <a:moveTo>
                  <a:pt x="34054" y="0"/>
                </a:moveTo>
                <a:lnTo>
                  <a:pt x="34054" y="21600"/>
                </a:lnTo>
                <a:lnTo>
                  <a:pt x="32654" y="20200"/>
                </a:lnTo>
                <a:lnTo>
                  <a:pt x="32654" y="1400"/>
                </a:lnTo>
                <a:close/>
              </a:path>
              <a:path fill="darkenLess" w="34054" h="21600">
                <a:moveTo>
                  <a:pt x="34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54" y="20200"/>
                </a:lnTo>
                <a:close/>
              </a:path>
              <a:path fill="lighten" w="34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54" h="21600">
                <a:moveTo>
                  <a:pt x="10020" y="10800"/>
                </a:moveTo>
                <a:lnTo>
                  <a:pt x="24033" y="3794"/>
                </a:lnTo>
                <a:lnTo>
                  <a:pt x="24033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that we know what an opinion is, and what a claim is, let’s go learn about the types of evidence that can support a cla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6840" y="609480"/>
            <a:ext cx="82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tell if the following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facts or opin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133360" cy="3238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334120" y="1752480"/>
            <a:ext cx="3352680" cy="2133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pract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ke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3000" y="53352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year except leap year has 365 d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Object 5" descr=""/>
          <p:cNvPicPr/>
          <p:nvPr/>
        </p:nvPicPr>
        <p:blipFill>
          <a:blip r:embed="rId1"/>
          <a:stretch/>
        </p:blipFill>
        <p:spPr>
          <a:xfrm>
            <a:off x="3227400" y="2038320"/>
            <a:ext cx="2689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602720" y="609480"/>
            <a:ext cx="65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6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36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40384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40" h="21600">
                <a:moveTo>
                  <a:pt x="9613" y="3794"/>
                </a:moveTo>
                <a:lnTo>
                  <a:pt x="23626" y="10800"/>
                </a:lnTo>
                <a:lnTo>
                  <a:pt x="961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69200" y="609480"/>
            <a:ext cx="69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rect!  That statement is a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Object 4" descr=""/>
          <p:cNvPicPr/>
          <p:nvPr/>
        </p:nvPicPr>
        <p:blipFill>
          <a:blip r:embed="rId1"/>
          <a:stretch/>
        </p:blipFill>
        <p:spPr>
          <a:xfrm>
            <a:off x="3287880" y="2590920"/>
            <a:ext cx="227484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4648320"/>
            <a:ext cx="175248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act 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63200" y="609480"/>
            <a:ext cx="786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nch fries taste better with ketch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6781680" y="4724280"/>
            <a:ext cx="1981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inion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Object 5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7143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6040" y="609480"/>
            <a:ext cx="83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OPS!  That statement is an opinion. 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lls what someone thi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6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025360" cy="29210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3809880" y="53341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3794"/>
                </a:moveTo>
                <a:lnTo>
                  <a:pt x="24284" y="10800"/>
                </a:lnTo>
                <a:lnTo>
                  <a:pt x="10271" y="17806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8T18:37:03Z</dcterms:created>
  <dc:creator>T.R. Systems</dc:creator>
  <dc:description/>
  <dc:language>en-US</dc:language>
  <cp:lastModifiedBy>Tengstrand</cp:lastModifiedBy>
  <dcterms:modified xsi:type="dcterms:W3CDTF">2011-04-05T17:49:12Z</dcterms:modified>
  <cp:revision>10</cp:revision>
  <dc:subject/>
  <dc:title>No Slide Title</dc:title>
</cp:coreProperties>
</file>